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377-D110-47A5-83BC-03DDF5B2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604-8F92-4F6B-BD96-82068B62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69A-1F3D-4B29-B5E4-CF1266EB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0FB-7F7E-407A-9687-45B1B5B9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E776-57F9-48CD-A0A3-09A7EBD4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D9DA-BF1E-45FE-B7A7-10B801BB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AD08-8208-4F7D-A059-CD140229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89E6-942F-44AC-B859-33C5B636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B427-C937-48A9-8D7E-F1B36C3F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334E-BF19-4E65-9CA2-3BB6E464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A61D-F780-464B-B5B5-C609D9CC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5AD-7FC6-4658-9529-4D62BC2A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CD1E-BF9F-465D-8AC0-592E7119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134A-1582-46AF-8685-F9BE3F12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64CB-8D4E-4CBE-BAA6-4683718C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0833-4B41-40C4-B907-E76CCD7F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D10A-3531-4ECD-95B4-8C0BEBB8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E6B-75E5-40F0-8689-87ECF5F6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D57-609A-4D76-ACE6-B7506715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429-3D7F-4745-BE4C-A5BBD528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FCC-29CA-4A7C-962C-B643841F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69A-2E11-441B-A755-C4D23D99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B93-D512-40C3-A001-A1C5862B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CBC-8BD6-490E-9D2A-2984BAFE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39C9-21D1-48E9-A3B6-87358D564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28600" y="228600"/>
            <a:ext cx="8763120" cy="6553080"/>
            <a:chOff x="228600" y="228600"/>
            <a:chExt cx="8763120" cy="6553080"/>
          </a:xfrm>
        </p:grpSpPr>
        <p:sp>
          <p:nvSpPr>
            <p:cNvPr id="6" name="Rectangle 8"/>
            <p:cNvSpPr/>
            <p:nvPr/>
          </p:nvSpPr>
          <p:spPr>
            <a:xfrm>
              <a:off x="1600200" y="228600"/>
              <a:ext cx="7391520" cy="763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228600" y="1752480"/>
              <a:ext cx="76320" cy="5029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Picture 10" descr="dice2"/>
          <p:cNvPicPr/>
          <p:nvPr/>
        </p:nvPicPr>
        <p:blipFill>
          <a:blip r:embed="rId2"/>
          <a:stretch/>
        </p:blipFill>
        <p:spPr>
          <a:xfrm>
            <a:off x="31680" y="0"/>
            <a:ext cx="1720800" cy="17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2457360"/>
            <a:ext cx="9067680" cy="4324320"/>
            <a:chOff x="0" y="2457360"/>
            <a:chExt cx="9067680" cy="4324320"/>
          </a:xfrm>
        </p:grpSpPr>
        <p:sp>
          <p:nvSpPr>
            <p:cNvPr id="46" name="Rectangle 8"/>
            <p:cNvSpPr/>
            <p:nvPr/>
          </p:nvSpPr>
          <p:spPr>
            <a:xfrm>
              <a:off x="1676520" y="2666880"/>
              <a:ext cx="7391160" cy="763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228600" y="4038480"/>
              <a:ext cx="76320" cy="2743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10" descr="dice2"/>
            <p:cNvPicPr/>
            <p:nvPr/>
          </p:nvPicPr>
          <p:blipFill>
            <a:blip r:embed="rId2"/>
            <a:stretch/>
          </p:blipFill>
          <p:spPr>
            <a:xfrm>
              <a:off x="0" y="2457360"/>
              <a:ext cx="155268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D4B6-A96D-4A2F-A31C-0F96689E5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33"/>
                </a:solidFill>
                <a:latin typeface="Allegro BT"/>
              </a:rPr>
              <a:t>Probability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9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ight Arrow 5">
            <a:hlinkClick r:id="rId1" action="ppaction://hlinksldjump"/>
          </p:cNvPr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3248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r turn!</a:t>
            </a:r>
            <a:br>
              <a:rPr sz="4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ease do on your own paper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not move forward until teacher checks your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Give the total number of outcomes of choosing a hamburger, hot dog, or chicken and potato salad, coleslaw, or beans. Use a tree diagr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What is the chance of having a hot dog? Write in fraction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AG00317_"/>
          <p:cNvPicPr/>
          <p:nvPr/>
        </p:nvPicPr>
        <p:blipFill>
          <a:blip r:embed="rId1"/>
          <a:stretch/>
        </p:blipFill>
        <p:spPr>
          <a:xfrm>
            <a:off x="7848720" y="2286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3505320" y="6064200"/>
            <a:ext cx="2514600" cy="642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 E L P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ight Arrow 7"/>
          <p:cNvSpPr/>
          <p:nvPr/>
        </p:nvSpPr>
        <p:spPr>
          <a:xfrm>
            <a:off x="8077320" y="61722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Give the total number of outcomes of choosing a hamburger, hot dog, or chicken and potato salad, coleslaw, or beans. Use a tree diagram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mbur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 d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2590920" y="3428640"/>
            <a:ext cx="13716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2590920" y="365760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86000" y="47242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2286000" y="47242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2286000" y="457164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2286000" y="56386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2286000" y="56386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2286000" y="548604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9"/>
          <p:cNvSpPr/>
          <p:nvPr/>
        </p:nvSpPr>
        <p:spPr>
          <a:xfrm>
            <a:off x="2590920" y="365760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ight Arrow 20"/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4038480" y="3259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tato sal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21"/>
          <p:cNvSpPr/>
          <p:nvPr/>
        </p:nvSpPr>
        <p:spPr>
          <a:xfrm>
            <a:off x="3733920" y="4419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tato sal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22"/>
          <p:cNvSpPr/>
          <p:nvPr/>
        </p:nvSpPr>
        <p:spPr>
          <a:xfrm>
            <a:off x="3733920" y="5334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tato sal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23"/>
          <p:cNvSpPr/>
          <p:nvPr/>
        </p:nvSpPr>
        <p:spPr>
          <a:xfrm>
            <a:off x="3733920" y="57913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24"/>
          <p:cNvSpPr/>
          <p:nvPr/>
        </p:nvSpPr>
        <p:spPr>
          <a:xfrm>
            <a:off x="3809880" y="48006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25"/>
          <p:cNvSpPr/>
          <p:nvPr/>
        </p:nvSpPr>
        <p:spPr>
          <a:xfrm>
            <a:off x="4114800" y="3733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6"/>
          <p:cNvSpPr/>
          <p:nvPr/>
        </p:nvSpPr>
        <p:spPr>
          <a:xfrm>
            <a:off x="4038480" y="34876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lesla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27"/>
          <p:cNvSpPr/>
          <p:nvPr/>
        </p:nvSpPr>
        <p:spPr>
          <a:xfrm>
            <a:off x="3733920" y="4630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lesla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28"/>
          <p:cNvSpPr/>
          <p:nvPr/>
        </p:nvSpPr>
        <p:spPr>
          <a:xfrm>
            <a:off x="3733920" y="5562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lesla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6094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at is the chance of having a hot dog? Write in fraction form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find out how many total options there are. Here there are a total of nine choices. This is your denomin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find out how many options have a hot dog. Here there are a total of three choices. This is your nume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, put the fraction in simplest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nswer is 3/9 and then simplified is 1/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31"/>
          <p:cNvGrpSpPr/>
          <p:nvPr/>
        </p:nvGrpSpPr>
        <p:grpSpPr>
          <a:xfrm>
            <a:off x="7848720" y="5486400"/>
            <a:ext cx="990360" cy="914400"/>
            <a:chOff x="7848720" y="5486400"/>
            <a:chExt cx="990360" cy="914400"/>
          </a:xfrm>
        </p:grpSpPr>
        <p:sp>
          <p:nvSpPr>
            <p:cNvPr id="201" name="Octagon 29"/>
            <p:cNvSpPr/>
            <p:nvPr/>
          </p:nvSpPr>
          <p:spPr>
            <a:xfrm>
              <a:off x="7848720" y="5486400"/>
              <a:ext cx="914400" cy="91440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Box 30"/>
            <p:cNvSpPr/>
            <p:nvPr/>
          </p:nvSpPr>
          <p:spPr>
            <a:xfrm>
              <a:off x="7848720" y="57150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e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s all possibl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amount of choices from a group of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of a particular item out of all the possible cho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ight Arrow 5">
            <a:hlinkClick r:id="rId1" action="ppaction://hlinksldjump"/>
          </p:cNvPr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3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How many options are there of picking a number from 1 to 5 and choosing the color red, white, or blu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write a list down the paper of the first item, in this case 1 to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ight Arrow 5">
            <a:hlinkClick r:id="rId1" action="ppaction://hlinksldjump"/>
          </p:cNvPr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0833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How many options are there of picking a number from 1 to 5 and choosing the color red, white, or blu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determine how many options there are for the second i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3 o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ight Arrow 5"/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37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any options are there of picking a number from 1 to 5 and choosing the color red, white, or b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“branches” off of each number. One for each second item, in this case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4"/>
          <p:cNvSpPr/>
          <p:nvPr/>
        </p:nvSpPr>
        <p:spPr>
          <a:xfrm flipV="1">
            <a:off x="1143000" y="3200040"/>
            <a:ext cx="13716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1143000" y="342900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143000" y="396252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1143000" y="396252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 flipV="1">
            <a:off x="1143000" y="38098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1295280" y="457200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1295280" y="457200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1295280" y="441936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1219320" y="51814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1219320" y="51814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1295280" y="5791320"/>
            <a:ext cx="1295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1295280" y="5791320"/>
            <a:ext cx="129564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7"/>
          <p:cNvSpPr/>
          <p:nvPr/>
        </p:nvSpPr>
        <p:spPr>
          <a:xfrm flipV="1">
            <a:off x="1219320" y="4952520"/>
            <a:ext cx="13716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8"/>
          <p:cNvSpPr/>
          <p:nvPr/>
        </p:nvSpPr>
        <p:spPr>
          <a:xfrm flipV="1">
            <a:off x="1295280" y="5562360"/>
            <a:ext cx="13716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1143000" y="342900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ight Arrow 20"/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37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ow many options are there of picking a number from 1 to 5 and choosing the color red, white, or b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e end of each branch, write one of the three options from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ems g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143000" y="320004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1143000" y="33526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1143000" y="33526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1143000" y="388584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1143000" y="40384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1143000" y="40384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2590920" y="3048120"/>
            <a:ext cx="83808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 flipV="1">
            <a:off x="1143000" y="464796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1143000" y="480060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1143000" y="480060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 flipV="1">
            <a:off x="1219320" y="533376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1219320" y="548640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8"/>
          <p:cNvSpPr/>
          <p:nvPr/>
        </p:nvSpPr>
        <p:spPr>
          <a:xfrm flipV="1">
            <a:off x="1219320" y="60958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1219320" y="624852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1219320" y="624852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2590920" y="3733920"/>
            <a:ext cx="6094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590920" y="4495680"/>
            <a:ext cx="609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2666880" y="5105520"/>
            <a:ext cx="60984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2666880" y="5867280"/>
            <a:ext cx="60984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ight Arrow 25"/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37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ow many options are there of picking a number from 1 to 5 and choosing the color red, white, or b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last column of the tree diagram and count how many options are li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"/>
          <p:cNvSpPr/>
          <p:nvPr/>
        </p:nvSpPr>
        <p:spPr>
          <a:xfrm flipV="1">
            <a:off x="1143000" y="320004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1143000" y="33526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1143000" y="33526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"/>
          <p:cNvSpPr/>
          <p:nvPr/>
        </p:nvSpPr>
        <p:spPr>
          <a:xfrm flipV="1">
            <a:off x="1143000" y="388584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143000" y="40384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1143000" y="40384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590920" y="3048120"/>
            <a:ext cx="83808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1143000" y="464796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>
            <a:off x="1143000" y="480060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1143000" y="480060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1219320" y="533376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1219320" y="548640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1219320" y="60958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1219320" y="624852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1219320" y="624852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2590920" y="3733920"/>
            <a:ext cx="6094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2590920" y="4495680"/>
            <a:ext cx="609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2666880" y="5105520"/>
            <a:ext cx="60984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2666880" y="5867280"/>
            <a:ext cx="60984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ight Arrow 25"/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0833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ow many options are there of picking a number from 1 to 5 and choosing the color red, white, or b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 total of 15 total choices li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ight Arrow 5"/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0833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hat is the chance of choosing the color 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five different times the color red could be chosen from all 15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ance of having the color red is 5/15 or reduced is 1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ight Arrow 5"/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22:58:29Z</dcterms:created>
  <dc:creator>sellers</dc:creator>
  <dc:description/>
  <dc:language>en-US</dc:language>
  <cp:lastModifiedBy>ACT</cp:lastModifiedBy>
  <dcterms:modified xsi:type="dcterms:W3CDTF">2008-07-09T17:47:17Z</dcterms:modified>
  <cp:revision>36</cp:revision>
  <dc:subject/>
  <dc:title>Probability </dc:title>
</cp:coreProperties>
</file>